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37.png" ContentType="image/png"/>
  <Override PartName="/ppt/media/image20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13.jpeg" ContentType="image/jpeg"/>
  <Override PartName="/ppt/media/image30.jpeg" ContentType="image/jpeg"/>
  <Override PartName="/ppt/media/image31.png" ContentType="image/png"/>
  <Override PartName="/ppt/media/image2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4.png" ContentType="image/png"/>
  <Override PartName="/ppt/media/image38.jpeg" ContentType="image/jpeg"/>
  <Override PartName="/ppt/media/image19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651-D2AF-4F5D-8A13-396455CE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D09-B587-4C37-94F8-724C3CCE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30F-954C-41EA-958C-91989332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E7D-C7B7-47C4-AFE9-D8304375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0EEC-B219-45FC-8BC6-21F21ABA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1A4E-B420-4D83-AE14-3F817942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BA71-8E62-4BF9-9C30-56498F68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3983-B59C-4A2A-82DD-95CE769F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8048-5B21-4780-B09C-6135523F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15EA-4B2D-4CFA-A885-EE8DA0F5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B99D-D5C6-48FB-8B46-7884C1F2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84C-B076-444C-AFF1-383BD800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78B0-ECEA-40D8-8F8B-22E15F8C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1B55-5A22-4839-BAB5-50CD965B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61D5-3275-43A8-B871-7E85C820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17AD-058D-4983-8F1B-339E27A7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7320-C01E-4CAB-8790-EFA74C07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3FA9-9EF7-4E94-B752-DDF3F033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3D87A-45C7-4740-B40C-9965BA5A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C950D-C746-4B64-9BFC-38D9C769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2E53B-3E2B-4460-ADA9-D1BF121B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DF71D-74EB-4E81-9C50-DA3C95B7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F89-10B3-4B77-8335-A7517F24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261A6-98CE-4B63-B8CA-F2F1C0E4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EF740-0FE9-4D3E-A5B5-02B2E100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7033-17A8-4E83-BAAA-F5C9AA7E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95CD8-58BC-46DC-89DE-A9500F50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8583-1818-4005-A34C-63742B43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29106-20E0-40D6-ABFA-88B55151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857A5-4C98-47AC-B6AC-F21ABB01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C574D-C052-42F0-A7E0-A6C844CA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7AE27-EECA-4374-9E49-2F3CEC6C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691D2-158A-4080-8E64-DC511992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71A-40CF-4C14-AC04-5781C5CC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C47A1-6F21-43CA-953C-27E1F8BC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991D2-9169-4F0A-95CE-236E08C7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1C07F-95FC-444A-B732-4CE82783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4ED59-08DE-4DC1-98CF-32B73899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7281D-07E0-4B3C-8A2B-3B8F4204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AF776-B0AB-4695-BDC9-A04FB357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6699F-6CB3-4000-A7CE-488B2DCD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99236-F8FE-4175-AC17-6A744B15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838AD-E04B-4585-8DA6-9B13CA9D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220-647E-457B-9FCE-9191FF85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A24-EE57-4BB0-A365-6B189406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56A-7E92-46A4-8890-5F1A5970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64E-B7FA-43F1-811E-784E8988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EB0-E7EB-46E0-A7A1-FD37E726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5D06-E1B5-4BA3-B1DB-C2A7E8E5B63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418E-00C8-4644-BA5F-6E81226D92B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5609-60F8-4F3E-98A6-BCB41B84E79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B153-1FD0-458D-A47F-E5AED0E30F3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7851960" cy="1249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280" y="1700280"/>
            <a:ext cx="8280360" cy="3960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еемники Хлодвига не смогли удержать власть в своих руках. В некоторых областях государства начали управлять майордомы. Одним из таких новых правителей стал сын Карла Мартелла,  Пипин Короткий. Он смог удержать власть и передать ее своему сыну Карлу. В истории он известен как Великий. Сегодня на уроке попытаемся разобраться, что это был за человек и почему его так прозвали современни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4. Этап построения проекта выхода из затруднен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684360" y="1484280"/>
            <a:ext cx="81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Карл Вели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Империя Карла Вели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Каролингское Возро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Как и почему распалась империя Карла Велик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611280" y="4581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Как нам узнать ответы на все наши вопро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ный вопрос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611280" y="220500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служенно ли  Карл получил имя  Велик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ть характеристику Карла Великого и показать его роль в ис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головок 11"/>
          <p:cNvSpPr/>
          <p:nvPr/>
        </p:nvSpPr>
        <p:spPr>
          <a:xfrm>
            <a:off x="611280" y="981000"/>
            <a:ext cx="822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4. Этап построения проекта выхода из затруд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95280" y="1267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onstantia"/>
              </a:rPr>
              <a:t>Гипотеза: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Карл Великий был выдающимся человеком своей эпохи и оправдал своё прозвищ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Работа в груп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1 группа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 с источниками и текстом параграфа, составление графического изображ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2 группа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 с источником и текстом параграфа, составление графического изображ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3 группа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 с текстом параграфа, рассказ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4 группа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 с текстом параграфа, выявление причинно-следственных связ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Arial"/>
                <a:ea typeface="Arial"/>
              </a:rPr>
              <a:t>5.Этап реализации построенного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Заголовок 1"/>
          <p:cNvGrpSpPr/>
          <p:nvPr/>
        </p:nvGrpSpPr>
        <p:grpSpPr>
          <a:xfrm>
            <a:off x="255600" y="1133640"/>
            <a:ext cx="7577280" cy="2011320"/>
            <a:chOff x="255600" y="1133640"/>
            <a:chExt cx="7577280" cy="2011320"/>
          </a:xfrm>
        </p:grpSpPr>
        <p:pic>
          <p:nvPicPr>
            <p:cNvPr id="23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55600" y="1133640"/>
              <a:ext cx="75772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24000" y="1844640"/>
              <a:ext cx="73436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768-814</a:t>
              </a:r>
              <a:r>
                <a:rPr b="0" lang="ru-RU" sz="4500" spc="-1" strike="noStrike">
                  <a:solidFill>
                    <a:srgbClr val="02303e"/>
                  </a:solidFill>
                  <a:latin typeface="Times New Roman"/>
                  <a:ea typeface="Times New Roman"/>
                </a:rPr>
                <a:t> – правление Карла Великого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Picture 2" descr="F:\Карл Великий\Новая папка\Карл Великий.jpg"/>
          <p:cNvPicPr/>
          <p:nvPr/>
        </p:nvPicPr>
        <p:blipFill>
          <a:blip r:embed="rId2"/>
          <a:stretch/>
        </p:blipFill>
        <p:spPr>
          <a:xfrm>
            <a:off x="6516720" y="2708280"/>
            <a:ext cx="2424240" cy="3832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F:\Карл Великий\image1.jpeg"/>
          <p:cNvPicPr/>
          <p:nvPr/>
        </p:nvPicPr>
        <p:blipFill>
          <a:blip r:embed="rId3"/>
          <a:stretch/>
        </p:blipFill>
        <p:spPr>
          <a:xfrm>
            <a:off x="539640" y="3443400"/>
            <a:ext cx="2519640" cy="30574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5"/>
          <p:cNvSpPr/>
          <p:nvPr/>
        </p:nvSpPr>
        <p:spPr>
          <a:xfrm>
            <a:off x="1116000" y="33336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езентация 1 груп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Picture 2" descr="C:\Users\Пользователь\Desktop\slide-2.jpg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70c0"/>
                </a:solidFill>
                <a:latin typeface="Calibri"/>
              </a:rPr>
              <a:t>Войны Карла Великог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cxnSp>
        <p:nvCxnSpPr>
          <p:cNvPr id="245" name="Прямая со стрелкой 4"/>
          <p:cNvCxnSpPr/>
          <p:nvPr/>
        </p:nvCxnSpPr>
        <p:spPr>
          <a:xfrm flipH="1">
            <a:off x="2050560" y="836280"/>
            <a:ext cx="650160" cy="1369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6" name="Прямая со стрелкой 7"/>
          <p:cNvCxnSpPr/>
          <p:nvPr/>
        </p:nvCxnSpPr>
        <p:spPr>
          <a:xfrm>
            <a:off x="4211280" y="980640"/>
            <a:ext cx="1080" cy="1369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7" name="Прямая со стрелкой 9"/>
          <p:cNvCxnSpPr/>
          <p:nvPr/>
        </p:nvCxnSpPr>
        <p:spPr>
          <a:xfrm>
            <a:off x="5940360" y="907560"/>
            <a:ext cx="936000" cy="1297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8" name="TextBox 12"/>
          <p:cNvSpPr/>
          <p:nvPr/>
        </p:nvSpPr>
        <p:spPr>
          <a:xfrm>
            <a:off x="1476360" y="2276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к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3635280" y="2349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6156360" y="22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т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5"/>
          <p:cNvSpPr/>
          <p:nvPr/>
        </p:nvSpPr>
        <p:spPr>
          <a:xfrm>
            <a:off x="826920" y="2997360"/>
            <a:ext cx="29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Цели пох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емление знати приобрести новые земли и зависимых крестья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астие церкви с целью распространения христи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6"/>
          <p:cNvSpPr/>
          <p:nvPr/>
        </p:nvSpPr>
        <p:spPr>
          <a:xfrm>
            <a:off x="5148360" y="3068640"/>
            <a:ext cx="295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оследствия пох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хват новых земе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вращение свободных общинников в зависимых крестья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пространение христи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Империя Карла Великого (презентация 2 группы)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Picture 3" descr="F:\Карл Великий\Новая папка\коронация карла 774 год на королевство лонгобардов.jpg"/>
          <p:cNvPicPr/>
          <p:nvPr/>
        </p:nvPicPr>
        <p:blipFill>
          <a:blip r:embed="rId1"/>
          <a:stretch/>
        </p:blipFill>
        <p:spPr>
          <a:xfrm>
            <a:off x="250920" y="765000"/>
            <a:ext cx="2636640" cy="37436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3059280" y="83664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ческий источ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был коронован Карл Велик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е значение имело принятие нового титу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F:\Карл Великий\Новая папка\Папа Лев III венчает Карла Великого императорской короной в Риме....jpg"/>
          <p:cNvPicPr/>
          <p:nvPr/>
        </p:nvPicPr>
        <p:blipFill>
          <a:blip r:embed="rId2"/>
          <a:stretch/>
        </p:blipFill>
        <p:spPr>
          <a:xfrm>
            <a:off x="2916360" y="4437000"/>
            <a:ext cx="5867280" cy="2239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F:\Карл Великий\Новая папка\Корона Карла Великого.jpg"/>
          <p:cNvPicPr/>
          <p:nvPr/>
        </p:nvPicPr>
        <p:blipFill>
          <a:blip r:embed="rId3"/>
          <a:stretch/>
        </p:blipFill>
        <p:spPr>
          <a:xfrm>
            <a:off x="4788000" y="2060640"/>
            <a:ext cx="28432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258" name="Заголовок 1"/>
          <p:cNvGrpSpPr/>
          <p:nvPr/>
        </p:nvGrpSpPr>
        <p:grpSpPr>
          <a:xfrm>
            <a:off x="109440" y="4668840"/>
            <a:ext cx="2835360" cy="1671480"/>
            <a:chOff x="109440" y="4668840"/>
            <a:chExt cx="2835360" cy="1671480"/>
          </a:xfrm>
        </p:grpSpPr>
        <p:pic>
          <p:nvPicPr>
            <p:cNvPr id="259" name="Заголовок 1" descr=""/>
            <p:cNvPicPr/>
            <p:nvPr/>
          </p:nvPicPr>
          <p:blipFill>
            <a:blip r:embed="rId4"/>
            <a:stretch/>
          </p:blipFill>
          <p:spPr>
            <a:xfrm>
              <a:off x="109440" y="4668840"/>
              <a:ext cx="2835360" cy="16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79280" y="4724280"/>
              <a:ext cx="2700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00 г.</a:t>
              </a:r>
              <a:r>
                <a:rPr b="1" i="1" lang="ru-RU" sz="2000" spc="-1" strike="noStrike">
                  <a:solidFill>
                    <a:srgbClr val="03495c"/>
                  </a:solidFill>
                  <a:latin typeface="Times New Roman"/>
                  <a:ea typeface="Times New Roman"/>
                </a:rPr>
                <a:t> – провозглашение Карла Великого император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же представляла собой империя Карла Великого?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24000" y="98064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«Система управления империи» и сделайте вывод о сути вновь созданного государ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Рисунок 3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264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4"/>
          <p:cNvSpPr/>
          <p:nvPr/>
        </p:nvSpPr>
        <p:spPr>
          <a:xfrm>
            <a:off x="611280" y="404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Каролингское Возро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http://dailyoffice.files.wordpress.com/2010/05/stalcuin-350.jpg"/>
          <p:cNvPicPr/>
          <p:nvPr/>
        </p:nvPicPr>
        <p:blipFill>
          <a:blip r:embed="rId1"/>
          <a:stretch/>
        </p:blipFill>
        <p:spPr>
          <a:xfrm>
            <a:off x="250920" y="1052640"/>
            <a:ext cx="3173400" cy="30970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324000" y="4292640"/>
            <a:ext cx="24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лкуи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редневековая миниатю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C:\Users\Пользователь\Desktop\original.jpg"/>
          <p:cNvPicPr/>
          <p:nvPr/>
        </p:nvPicPr>
        <p:blipFill>
          <a:blip r:embed="rId2"/>
          <a:stretch/>
        </p:blipFill>
        <p:spPr>
          <a:xfrm>
            <a:off x="4716360" y="1268280"/>
            <a:ext cx="4103640" cy="27370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5940360" y="4365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хенская кап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3"/>
          <p:cNvSpPr/>
          <p:nvPr/>
        </p:nvSpPr>
        <p:spPr>
          <a:xfrm>
            <a:off x="395280" y="333360"/>
            <a:ext cx="79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Основным писчим материалом в средневековье служил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пергамен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. На раннем этапе его иногда красили, обычно в пурпур, писали золотом или сереб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http://www.ljplus.ru/img4/m/a/mailonsunday/Vellum-leaf-from-an-illuminated-medieval-manuscript-preview..jpg"/>
          <p:cNvPicPr/>
          <p:nvPr/>
        </p:nvPicPr>
        <p:blipFill>
          <a:blip r:embed="rId1"/>
          <a:stretch/>
        </p:blipFill>
        <p:spPr>
          <a:xfrm>
            <a:off x="5364000" y="1700280"/>
            <a:ext cx="2643480" cy="3600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http://www.templeton-cambridge.org/lib/img/articles/brown_manuscript.jpg"/>
          <p:cNvPicPr/>
          <p:nvPr/>
        </p:nvPicPr>
        <p:blipFill>
          <a:blip r:embed="rId2"/>
          <a:stretch/>
        </p:blipFill>
        <p:spPr>
          <a:xfrm>
            <a:off x="468360" y="2133720"/>
            <a:ext cx="43815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F:\Карл Великий\Новая папка\charlthegreat.jpg"/>
          <p:cNvPicPr/>
          <p:nvPr/>
        </p:nvPicPr>
        <p:blipFill>
          <a:blip r:embed="rId1"/>
          <a:stretch/>
        </p:blipFill>
        <p:spPr>
          <a:xfrm>
            <a:off x="179280" y="1413000"/>
            <a:ext cx="2214720" cy="2922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F:\Карл Великий\Новая папка\pepin короткий.jpg"/>
          <p:cNvPicPr/>
          <p:nvPr/>
        </p:nvPicPr>
        <p:blipFill>
          <a:blip r:embed="rId2"/>
          <a:stretch/>
        </p:blipFill>
        <p:spPr>
          <a:xfrm>
            <a:off x="2916360" y="2276640"/>
            <a:ext cx="1928520" cy="2350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F:\Карл Великий\Новая папка\Карл В..jpg"/>
          <p:cNvPicPr/>
          <p:nvPr/>
        </p:nvPicPr>
        <p:blipFill>
          <a:blip r:embed="rId3"/>
          <a:stretch/>
        </p:blipFill>
        <p:spPr>
          <a:xfrm>
            <a:off x="5940360" y="1700280"/>
            <a:ext cx="3038400" cy="3809880"/>
          </a:xfrm>
          <a:prstGeom prst="rect">
            <a:avLst/>
          </a:prstGeom>
          <a:ln w="0">
            <a:noFill/>
          </a:ln>
        </p:spPr>
      </p:pic>
      <p:grpSp>
        <p:nvGrpSpPr>
          <p:cNvPr id="200" name="TextBox 6"/>
          <p:cNvGrpSpPr/>
          <p:nvPr/>
        </p:nvGrpSpPr>
        <p:grpSpPr>
          <a:xfrm>
            <a:off x="92160" y="4730760"/>
            <a:ext cx="2316240" cy="762120"/>
            <a:chOff x="92160" y="4730760"/>
            <a:chExt cx="2316240" cy="762120"/>
          </a:xfrm>
        </p:grpSpPr>
        <p:pic>
          <p:nvPicPr>
            <p:cNvPr id="201" name="TextBox 6" descr=""/>
            <p:cNvPicPr/>
            <p:nvPr/>
          </p:nvPicPr>
          <p:blipFill>
            <a:blip r:embed="rId4"/>
            <a:stretch/>
          </p:blipFill>
          <p:spPr>
            <a:xfrm>
              <a:off x="92160" y="4730760"/>
              <a:ext cx="23162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79280" y="4797360"/>
              <a:ext cx="21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Карл Мартел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TextBox 7"/>
          <p:cNvGrpSpPr/>
          <p:nvPr/>
        </p:nvGrpSpPr>
        <p:grpSpPr>
          <a:xfrm>
            <a:off x="2779560" y="5162400"/>
            <a:ext cx="2273400" cy="1122480"/>
            <a:chOff x="2779560" y="5162400"/>
            <a:chExt cx="2273400" cy="1122480"/>
          </a:xfrm>
        </p:grpSpPr>
        <p:pic>
          <p:nvPicPr>
            <p:cNvPr id="204" name="TextBox 7" descr=""/>
            <p:cNvPicPr/>
            <p:nvPr/>
          </p:nvPicPr>
          <p:blipFill>
            <a:blip r:embed="rId5"/>
            <a:stretch/>
          </p:blipFill>
          <p:spPr>
            <a:xfrm>
              <a:off x="2779560" y="5162400"/>
              <a:ext cx="22734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843280" y="5229360"/>
              <a:ext cx="214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ипин Корот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TextBox 8"/>
          <p:cNvGrpSpPr/>
          <p:nvPr/>
        </p:nvGrpSpPr>
        <p:grpSpPr>
          <a:xfrm>
            <a:off x="5730840" y="5810400"/>
            <a:ext cx="3205080" cy="761760"/>
            <a:chOff x="5730840" y="5810400"/>
            <a:chExt cx="3205080" cy="761760"/>
          </a:xfrm>
        </p:grpSpPr>
        <p:pic>
          <p:nvPicPr>
            <p:cNvPr id="207" name="TextBox 8" descr=""/>
            <p:cNvPicPr/>
            <p:nvPr/>
          </p:nvPicPr>
          <p:blipFill>
            <a:blip r:embed="rId6"/>
            <a:stretch/>
          </p:blipFill>
          <p:spPr>
            <a:xfrm>
              <a:off x="5730840" y="5810400"/>
              <a:ext cx="320508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796000" y="5877000"/>
              <a:ext cx="30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Карл Вели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Выгнутая вверх стрелка 9"/>
          <p:cNvSpPr/>
          <p:nvPr/>
        </p:nvSpPr>
        <p:spPr>
          <a:xfrm rot="1852200">
            <a:off x="1944720" y="1177920"/>
            <a:ext cx="1484280" cy="552600"/>
          </a:xfrm>
          <a:custGeom>
            <a:avLst/>
            <a:gdLst>
              <a:gd name="textAreaLeft" fmla="*/ 319320 w 1484280"/>
              <a:gd name="textAreaRight" fmla="*/ 1096200 w 1484280"/>
              <a:gd name="textAreaTop" fmla="*/ 73800 h 552600"/>
              <a:gd name="textAreaBottom" fmla="*/ 478800 h 552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93" hR="21600" stAng="10800000" swAng="5400000"/>
                <a:lnTo>
                  <a:pt x="11303" y="0"/>
                </a:lnTo>
                <a:arcTo wR="9293" hR="21600" stAng="-5400000" swAng="3541740"/>
                <a:lnTo>
                  <a:pt x="21305" y="16200"/>
                </a:lnTo>
                <a:lnTo>
                  <a:pt x="19590" y="21600"/>
                </a:lnTo>
                <a:lnTo>
                  <a:pt x="17285" y="16200"/>
                </a:lnTo>
                <a:lnTo>
                  <a:pt x="18290" y="16200"/>
                </a:lnTo>
                <a:arcTo wR="9293" hR="21600" stAng="-1858260" swAng="-3380963"/>
                <a:lnTo>
                  <a:pt x="10298" y="127"/>
                </a:lnTo>
                <a:arcTo wR="9293" hR="21600" stAng="-5560777" swAng="-5239223"/>
                <a:close/>
              </a:path>
              <a:path fill="darkenLess" w="21600" h="21600">
                <a:moveTo>
                  <a:pt x="0" y="21600"/>
                </a:moveTo>
                <a:arcTo wR="9293" hR="21600" stAng="10800000" swAng="5400000"/>
                <a:lnTo>
                  <a:pt x="9293" y="0"/>
                </a:lnTo>
                <a:arcTo wR="9293" hR="21600" stAng="-5400000" swAng="160777"/>
                <a:lnTo>
                  <a:pt x="10298" y="127"/>
                </a:lnTo>
                <a:arcTo wR="9293" hR="21600" stAng="-5560777" swAng="-5239223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Выгнутая вверх стрелка 10"/>
          <p:cNvSpPr/>
          <p:nvPr/>
        </p:nvSpPr>
        <p:spPr>
          <a:xfrm rot="1852200">
            <a:off x="4537080" y="1682640"/>
            <a:ext cx="1484280" cy="552600"/>
          </a:xfrm>
          <a:custGeom>
            <a:avLst/>
            <a:gdLst>
              <a:gd name="textAreaLeft" fmla="*/ 319320 w 1484280"/>
              <a:gd name="textAreaRight" fmla="*/ 1096200 w 1484280"/>
              <a:gd name="textAreaTop" fmla="*/ 73800 h 552600"/>
              <a:gd name="textAreaBottom" fmla="*/ 478800 h 552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93" hR="21600" stAng="10800000" swAng="5400000"/>
                <a:lnTo>
                  <a:pt x="11303" y="0"/>
                </a:lnTo>
                <a:arcTo wR="9293" hR="21600" stAng="-5400000" swAng="3541740"/>
                <a:lnTo>
                  <a:pt x="21305" y="16200"/>
                </a:lnTo>
                <a:lnTo>
                  <a:pt x="19590" y="21600"/>
                </a:lnTo>
                <a:lnTo>
                  <a:pt x="17285" y="16200"/>
                </a:lnTo>
                <a:lnTo>
                  <a:pt x="18290" y="16200"/>
                </a:lnTo>
                <a:arcTo wR="9293" hR="21600" stAng="-1858260" swAng="-3380963"/>
                <a:lnTo>
                  <a:pt x="10298" y="127"/>
                </a:lnTo>
                <a:arcTo wR="9293" hR="21600" stAng="-5560777" swAng="-5239223"/>
                <a:close/>
              </a:path>
              <a:path fill="darkenLess" w="21600" h="21600">
                <a:moveTo>
                  <a:pt x="0" y="21600"/>
                </a:moveTo>
                <a:arcTo wR="9293" hR="21600" stAng="10800000" swAng="5400000"/>
                <a:lnTo>
                  <a:pt x="9293" y="0"/>
                </a:lnTo>
                <a:arcTo wR="9293" hR="21600" stAng="-5400000" swAng="160777"/>
                <a:lnTo>
                  <a:pt x="10298" y="127"/>
                </a:lnTo>
                <a:arcTo wR="9293" hR="21600" stAng="-5560777" swAng="-5239223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395280" y="620640"/>
            <a:ext cx="439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струментом для письма, как и в античности, служили калам и птичье пер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средние века было известно несколько рецептов приготовления чернил. Главными компонентами служили черный орех (дубовый нарост), сульфат ме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рнильницей служил рог, вставляемый в специальное отверстие в столешнице. Существовали и переносные металлические чернильницы. Широко применялись цветные чернила, особенно - красные, приготовленные, на свинцовой основе. Пользовались также зелеными, голубыми и желтыми чернилами, реже - фиолетов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hameleons.com/uploads/posts/2010-08/1283006934_43.jpg"/>
          <p:cNvPicPr/>
          <p:nvPr/>
        </p:nvPicPr>
        <p:blipFill>
          <a:blip r:embed="rId1"/>
          <a:srcRect l="0" t="0" r="0" b="50186"/>
          <a:stretch/>
        </p:blipFill>
        <p:spPr>
          <a:xfrm>
            <a:off x="4932360" y="907920"/>
            <a:ext cx="3933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F:\Карл Великий\Новая папка\Саркофаг с мощами Карла Великого.jpg"/>
          <p:cNvPicPr/>
          <p:nvPr/>
        </p:nvPicPr>
        <p:blipFill>
          <a:blip r:embed="rId1"/>
          <a:stretch/>
        </p:blipFill>
        <p:spPr>
          <a:xfrm>
            <a:off x="250920" y="907920"/>
            <a:ext cx="4030560" cy="2752920"/>
          </a:xfrm>
          <a:prstGeom prst="rect">
            <a:avLst/>
          </a:prstGeom>
          <a:ln w="0">
            <a:noFill/>
          </a:ln>
        </p:spPr>
      </p:pic>
      <p:grpSp>
        <p:nvGrpSpPr>
          <p:cNvPr id="275" name="Прямоугольник 1"/>
          <p:cNvGrpSpPr/>
          <p:nvPr/>
        </p:nvGrpSpPr>
        <p:grpSpPr>
          <a:xfrm>
            <a:off x="92160" y="3749760"/>
            <a:ext cx="8832600" cy="3254400"/>
            <a:chOff x="92160" y="3749760"/>
            <a:chExt cx="8832600" cy="3254400"/>
          </a:xfrm>
        </p:grpSpPr>
        <p:pic>
          <p:nvPicPr>
            <p:cNvPr id="276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92160" y="3749760"/>
              <a:ext cx="883260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79280" y="3780000"/>
              <a:ext cx="8677440" cy="30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мер Карл Великий в Аахене 28 января 814 года. Тело его было перенесено в построенный им Аахенский собор, и помещено в медный позолоченный саркофаг. Над саркофагом повесили золотую доску с надписью: "Здесь покоится тело Карла, великого и правоверного императора, который со славой расширил пределы государства франков и счастливо управлял им в течение сорока семи лет. Он умер 70-ти лет, в зиму Господню 814-е". В 1165 году он был причислен к лику святых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мецкий поэт в кратком четверостишии охарактеризовал знаменитого короля франков так: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 Несметных ратей предводитель,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 Племен владыка и отец,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 Науки друг и покровитель,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 Законодатель и Мудрец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Picture 4" descr="F:\Карл Великий\Новая папка\kul20090210-1750.jpg"/>
          <p:cNvPicPr/>
          <p:nvPr/>
        </p:nvPicPr>
        <p:blipFill>
          <a:blip r:embed="rId3"/>
          <a:srcRect l="15409" t="13996" r="19802" b="16004"/>
          <a:stretch/>
        </p:blipFill>
        <p:spPr>
          <a:xfrm>
            <a:off x="5003640" y="880920"/>
            <a:ext cx="3419640" cy="27720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611280" y="189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4. Как  почему распалась империя Карла Вел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Box 1"/>
          <p:cNvGrpSpPr/>
          <p:nvPr/>
        </p:nvGrpSpPr>
        <p:grpSpPr>
          <a:xfrm>
            <a:off x="-66600" y="-103320"/>
            <a:ext cx="9320040" cy="1462320"/>
            <a:chOff x="-66600" y="-103320"/>
            <a:chExt cx="9320040" cy="1462320"/>
          </a:xfrm>
        </p:grpSpPr>
        <p:pic>
          <p:nvPicPr>
            <p:cNvPr id="281" name="TextBox 1" descr=""/>
            <p:cNvPicPr/>
            <p:nvPr/>
          </p:nvPicPr>
          <p:blipFill>
            <a:blip r:embed="rId1"/>
            <a:stretch/>
          </p:blipFill>
          <p:spPr>
            <a:xfrm>
              <a:off x="-66600" y="-103320"/>
              <a:ext cx="932004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43 г. </a:t>
              </a:r>
              <a:r>
                <a:rPr b="1" lang="ru-RU" sz="3200" spc="-1" strike="noStrike">
                  <a:solidFill>
                    <a:srgbClr val="03495c"/>
                  </a:solidFill>
                  <a:latin typeface="Times New Roman"/>
                  <a:ea typeface="Times New Roman"/>
                </a:rPr>
                <a:t>– Верденский договор о разделе империи Карла Великог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Picture 2" descr="C:\Users\1\Pictures\История\карты\Средние века\Разделы империи Каролингов.gif"/>
          <p:cNvPicPr/>
          <p:nvPr/>
        </p:nvPicPr>
        <p:blipFill>
          <a:blip r:embed="rId2"/>
          <a:srcRect l="0" t="2797" r="0" b="15113"/>
          <a:stretch/>
        </p:blipFill>
        <p:spPr>
          <a:xfrm>
            <a:off x="0" y="1090440"/>
            <a:ext cx="6143760" cy="5767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F:\Карл Великий\Лотарь1.jpg"/>
          <p:cNvPicPr/>
          <p:nvPr/>
        </p:nvPicPr>
        <p:blipFill>
          <a:blip r:embed="rId3"/>
          <a:stretch/>
        </p:blipFill>
        <p:spPr>
          <a:xfrm>
            <a:off x="6286680" y="1285920"/>
            <a:ext cx="253980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85" name="TextBox 4"/>
          <p:cNvGrpSpPr/>
          <p:nvPr/>
        </p:nvGrpSpPr>
        <p:grpSpPr>
          <a:xfrm>
            <a:off x="6076800" y="4505400"/>
            <a:ext cx="2994120" cy="1493640"/>
            <a:chOff x="6076800" y="4505400"/>
            <a:chExt cx="2994120" cy="1493640"/>
          </a:xfrm>
        </p:grpSpPr>
        <p:pic>
          <p:nvPicPr>
            <p:cNvPr id="286" name="TextBox 4" descr=""/>
            <p:cNvPicPr/>
            <p:nvPr/>
          </p:nvPicPr>
          <p:blipFill>
            <a:blip r:embed="rId4"/>
            <a:stretch/>
          </p:blipFill>
          <p:spPr>
            <a:xfrm>
              <a:off x="6076800" y="4505400"/>
              <a:ext cx="299412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143760" y="4572000"/>
              <a:ext cx="2857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Лотарь – старший внук Карла Велик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Text Box 13"/>
          <p:cNvGrpSpPr/>
          <p:nvPr/>
        </p:nvGrpSpPr>
        <p:grpSpPr>
          <a:xfrm>
            <a:off x="3524400" y="2292480"/>
            <a:ext cx="1236600" cy="707400"/>
            <a:chOff x="3524400" y="2292480"/>
            <a:chExt cx="1236600" cy="707400"/>
          </a:xfrm>
        </p:grpSpPr>
        <p:pic>
          <p:nvPicPr>
            <p:cNvPr id="289" name="Text Box 13" descr=""/>
            <p:cNvPicPr/>
            <p:nvPr/>
          </p:nvPicPr>
          <p:blipFill>
            <a:blip r:embed="rId5"/>
            <a:stretch/>
          </p:blipFill>
          <p:spPr>
            <a:xfrm>
              <a:off x="3524400" y="2292480"/>
              <a:ext cx="12366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643200" y="2357280"/>
              <a:ext cx="100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dbf5f9"/>
                  </a:solidFill>
                  <a:latin typeface="Constantia"/>
                </a:rPr>
                <a:t>Лотар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Text Box 14"/>
          <p:cNvGrpSpPr/>
          <p:nvPr/>
        </p:nvGrpSpPr>
        <p:grpSpPr>
          <a:xfrm>
            <a:off x="1182600" y="3865680"/>
            <a:ext cx="1236600" cy="907920"/>
            <a:chOff x="1182600" y="3865680"/>
            <a:chExt cx="1236600" cy="907920"/>
          </a:xfrm>
        </p:grpSpPr>
        <p:pic>
          <p:nvPicPr>
            <p:cNvPr id="292" name="Text Box 14" descr=""/>
            <p:cNvPicPr/>
            <p:nvPr/>
          </p:nvPicPr>
          <p:blipFill>
            <a:blip r:embed="rId6"/>
            <a:stretch/>
          </p:blipFill>
          <p:spPr>
            <a:xfrm>
              <a:off x="1182600" y="3865680"/>
              <a:ext cx="1236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280160" y="3929040"/>
              <a:ext cx="104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dbf5f9"/>
                  </a:solidFill>
                  <a:latin typeface="Constantia"/>
                </a:rPr>
                <a:t>Кар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dbf5f9"/>
                  </a:solidFill>
                  <a:latin typeface="Constantia"/>
                </a:rPr>
                <a:t>Лыс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Text Box 12"/>
          <p:cNvGrpSpPr/>
          <p:nvPr/>
        </p:nvGrpSpPr>
        <p:grpSpPr>
          <a:xfrm>
            <a:off x="3170160" y="4724280"/>
            <a:ext cx="1474920" cy="633600"/>
            <a:chOff x="3170160" y="4724280"/>
            <a:chExt cx="1474920" cy="633600"/>
          </a:xfrm>
        </p:grpSpPr>
        <p:pic>
          <p:nvPicPr>
            <p:cNvPr id="295" name="Text Box 12" descr=""/>
            <p:cNvPicPr/>
            <p:nvPr/>
          </p:nvPicPr>
          <p:blipFill>
            <a:blip r:embed="rId7"/>
            <a:stretch/>
          </p:blipFill>
          <p:spPr>
            <a:xfrm>
              <a:off x="3170160" y="4724280"/>
              <a:ext cx="147492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262680" y="4786200"/>
              <a:ext cx="128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dbf5f9"/>
                  </a:solidFill>
                  <a:latin typeface="Constantia"/>
                </a:rPr>
                <a:t>Людов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"/>
          <p:cNvSpPr/>
          <p:nvPr/>
        </p:nvSpPr>
        <p:spPr>
          <a:xfrm>
            <a:off x="1258920" y="260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 распада империи Карла Вели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"/>
          <p:cNvSpPr/>
          <p:nvPr/>
        </p:nvSpPr>
        <p:spPr>
          <a:xfrm>
            <a:off x="684360" y="1628640"/>
            <a:ext cx="80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роды, которые силой покорил Карл Великий, не хотели никому подчиня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овали экономические связи между частями импе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следники постоянно воевали между с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нать перестала подчиняться власти, так как хотела править самостоя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1"/>
          <p:cNvSpPr/>
          <p:nvPr/>
        </p:nvSpPr>
        <p:spPr>
          <a:xfrm>
            <a:off x="900000" y="40464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Arial"/>
                <a:ea typeface="Arial"/>
              </a:rPr>
              <a:t>6. Этап первичного закрепления с проговариванием во внешне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611280" y="1341360"/>
            <a:ext cx="78483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авайте с вами вспомним, что мы узнали на ур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Сколько лет правил Карл Велик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Какие военные походы он совершил и каков был их общий результ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Что нового появилось в устройстве общества во Франкском государстве в 7 ве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На какие государства распалась империя Карла Великого и почему это произош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1"/>
          <p:cNvSpPr/>
          <p:nvPr/>
        </p:nvSpPr>
        <p:spPr>
          <a:xfrm>
            <a:off x="900000" y="40464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Arial"/>
                <a:ea typeface="Arial"/>
              </a:rPr>
              <a:t>6. Этап первичного закрепления с проговариванием во внешне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971640" y="148428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ьте себе, что вы оказались в Средневековье в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е. Что бы вы посоветовали внукам Карла Великого, чтобы сохранить импери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1"/>
          <p:cNvSpPr/>
          <p:nvPr/>
        </p:nvSpPr>
        <p:spPr>
          <a:xfrm>
            <a:off x="900000" y="404640"/>
            <a:ext cx="727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изкультмину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ы - веселые марты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ы играем громко слиш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ногами топа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руками хлопа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дуваем щеч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качем на носоч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ружно прыгнем к потол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альчик поднесем к вис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друг другу да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Язычки покаже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Шире рот откроем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имасы все состро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Рисунок 2" descr="kak-luchshe-vstretit-novyj-2016-god-obezyany"/>
          <p:cNvPicPr/>
          <p:nvPr/>
        </p:nvPicPr>
        <p:blipFill>
          <a:blip r:embed="rId1"/>
          <a:stretch/>
        </p:blipFill>
        <p:spPr>
          <a:xfrm>
            <a:off x="4356000" y="2852640"/>
            <a:ext cx="4132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755640" y="620640"/>
            <a:ext cx="727236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. Этап самостоятельной работы с самопровер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к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1-3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2-2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3-2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4-1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1-125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1-1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2-1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3-3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4-1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1-3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900000" y="404640"/>
            <a:ext cx="72723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8.Этап включения в систему знаний и повт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луженно ли Карл получил имя Велики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"/>
          <p:cNvSpPr/>
          <p:nvPr/>
        </p:nvSpPr>
        <p:spPr>
          <a:xfrm>
            <a:off x="971640" y="333360"/>
            <a:ext cx="69134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9. Этап рефлексии учебной деятельности на уроке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ая цель была поставлена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Достигли мы ц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Что нового узна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Какие умения и навыки отрабатыв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С какими новыми терминами познакоми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Что понравилось и что не понравилось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Что было интересно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Какие выводы сдел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. Этап актуализации знани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611280" y="126828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знай историческую лич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ебил других военных вождей и многих своих родичей. Подчинил себе не одно племя, а население всей страны. Стал королем. Принял христианство. Передал власть по наследству своим сыновь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1116000" y="620640"/>
            <a:ext cx="698508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ильных ученик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§ 7, задание 6. Ученые считают, что распад империи Карла Великого произошел бы неизбежно, даже если бы у него был один внук. Согласны ли вы с такой точкой зрения?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редних ученик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§ 7, задание 5, провести исследо­вание на тему «Почему император в Константинополе был возмущен, когда узнал о коронации Карла?». Объясните, что вызвало такую реакцию. Как вы думаете, могло ли изменить ситуацию то, что Карл в письмах называл его своим брат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лабых ученик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§ 7, задание 1 на стр.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1332000" y="119700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  <a:ea typeface="Arial"/>
              </a:rPr>
              <a:t>СПАСИБО ВСЕМ ЗА ВНИМАНИЕ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. </a:t>
            </a: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Этап актуализации знан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964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Исторический диктант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Как называется период истории с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V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.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Как называется организация общества с определенной территорией, властью, законами, сбором налогов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Как называлось государство франков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Как называлось земельное владение, дававшееся при условии несения военной службы и передаваемое по наследству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5. Как назывался управляющий королевским дворо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6. Как назывался владелец феод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торическая личность: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Хлодви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торический диктант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е ве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кско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о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орд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ода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. Этап актуализации знани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TextBox 13"/>
          <p:cNvSpPr/>
          <p:nvPr/>
        </p:nvSpPr>
        <p:spPr>
          <a:xfrm>
            <a:off x="611280" y="1268280"/>
            <a:ext cx="813744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л укрепление Франкского государства Карл Великий, который правил 46 лет. В Средние века о Карле Великом было сложено много песен и легенд, которые воспевали его боевые подвиги, справедливость и муд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положите, какие вопросы мы должны обсудить на уроке?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3. Этап выявления места и причины затруднен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5000"/>
            <a:ext cx="8229600" cy="29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м ли мы сразу  ответить на все поставленные вами вопрос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умения и навыки нам необходимы для того, чтобы ответить на все наши вопрос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4. Этап построения проекта выхода из затруднен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Давайте попробуем дать имя уроку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4. Этап построения проекта выхода из затруднен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Заголовок 1"/>
          <p:cNvSpPr/>
          <p:nvPr/>
        </p:nvSpPr>
        <p:spPr>
          <a:xfrm>
            <a:off x="53964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никновение и распад империи Карла Великого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C:\Users\Пользователь\Desktop\02_UUuGTPU.jpg"/>
          <p:cNvPicPr/>
          <p:nvPr/>
        </p:nvPicPr>
        <p:blipFill>
          <a:blip r:embed="rId1"/>
          <a:stretch/>
        </p:blipFill>
        <p:spPr>
          <a:xfrm>
            <a:off x="2195640" y="2924280"/>
            <a:ext cx="48718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4:36:21Z</dcterms:created>
  <dc:creator>1</dc:creator>
  <dc:description/>
  <dc:language>en-US</dc:language>
  <cp:lastModifiedBy>Пользователь</cp:lastModifiedBy>
  <dcterms:modified xsi:type="dcterms:W3CDTF">2022-04-08T07:21:45Z</dcterms:modified>
  <cp:revision>50</cp:revision>
  <dc:subject/>
  <dc:title>Возникновение и распад империи Карла Великого</dc:title>
</cp:coreProperties>
</file>